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681-144C-47F4-81D1-C2BF111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E03-601B-45C4-8DF2-011A001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87F-7823-4B0B-A9B7-E6A650E8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0F3-6E32-4EB5-9202-163F7F3A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699-2FF3-4378-9DD1-642930F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925-0351-433A-A15F-21106EE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F4C-88C3-42A6-9335-FA555CD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525-8DD7-40A4-A7B8-EACF445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A4E-8DEA-4EB3-B6D3-B6043F15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D79-8EFB-487E-8C25-3E6DF5C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1C9-53AC-4522-BDC3-0994319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C7D-DF82-4856-9612-793B79E4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1FCB-2A75-422E-860D-44EB2A16BA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3"/>
          <p:cNvGrpSpPr/>
          <p:nvPr/>
        </p:nvGrpSpPr>
        <p:grpSpPr>
          <a:xfrm>
            <a:off x="6375240" y="1994040"/>
            <a:ext cx="2011680" cy="2122920"/>
            <a:chOff x="6375240" y="1994040"/>
            <a:chExt cx="2011680" cy="2122920"/>
          </a:xfrm>
        </p:grpSpPr>
        <p:cxnSp>
          <p:nvCxnSpPr>
            <p:cNvPr id="47" name="Straight Arrow Connector 12"/>
            <p:cNvCxnSpPr/>
            <p:nvPr/>
          </p:nvCxnSpPr>
          <p:spPr>
            <a:xfrm flipV="1">
              <a:off x="6699240" y="2062440"/>
              <a:ext cx="1080" cy="19562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" name="Straight Arrow Connector 15"/>
            <p:cNvCxnSpPr/>
            <p:nvPr/>
          </p:nvCxnSpPr>
          <p:spPr>
            <a:xfrm>
              <a:off x="6411960" y="3776760"/>
              <a:ext cx="1872360" cy="1080"/>
            </a:xfrm>
            <a:prstGeom prst="straightConnector1">
              <a:avLst/>
            </a:prstGeom>
            <a:ln w="2232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" name="Straight Connector 18"/>
            <p:cNvSpPr/>
            <p:nvPr/>
          </p:nvSpPr>
          <p:spPr>
            <a:xfrm flipV="1">
              <a:off x="6558120" y="2146320"/>
              <a:ext cx="1220760" cy="1820520"/>
            </a:xfrm>
            <a:prstGeom prst="line">
              <a:avLst/>
            </a:prstGeom>
            <a:ln w="12600">
              <a:solidFill>
                <a:srgbClr val="2c7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25"/>
            <p:cNvSpPr/>
            <p:nvPr/>
          </p:nvSpPr>
          <p:spPr>
            <a:xfrm>
              <a:off x="6413400" y="2898000"/>
              <a:ext cx="3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26"/>
            <p:cNvSpPr/>
            <p:nvPr/>
          </p:nvSpPr>
          <p:spPr>
            <a:xfrm>
              <a:off x="6999840" y="3748680"/>
              <a:ext cx="3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TextBox 27" descr=""/>
            <p:cNvPicPr/>
            <p:nvPr/>
          </p:nvPicPr>
          <p:blipFill>
            <a:blip r:embed="rId3"/>
            <a:stretch/>
          </p:blipFill>
          <p:spPr>
            <a:xfrm>
              <a:off x="6375240" y="19940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Box 28" descr=""/>
            <p:cNvPicPr/>
            <p:nvPr/>
          </p:nvPicPr>
          <p:blipFill>
            <a:blip r:embed="rId4"/>
            <a:stretch/>
          </p:blipFill>
          <p:spPr>
            <a:xfrm>
              <a:off x="6759000" y="34322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TextBox 29" descr=""/>
            <p:cNvPicPr/>
            <p:nvPr/>
          </p:nvPicPr>
          <p:blipFill>
            <a:blip r:embed="rId5"/>
            <a:stretch/>
          </p:blipFill>
          <p:spPr>
            <a:xfrm>
              <a:off x="8027280" y="3718800"/>
              <a:ext cx="35964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38"/>
          <p:cNvSpPr/>
          <p:nvPr/>
        </p:nvSpPr>
        <p:spPr>
          <a:xfrm>
            <a:off x="7155000" y="3081240"/>
            <a:ext cx="0" cy="69552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39"/>
          <p:cNvSpPr/>
          <p:nvPr/>
        </p:nvSpPr>
        <p:spPr>
          <a:xfrm flipH="1">
            <a:off x="6687720" y="3083040"/>
            <a:ext cx="451080" cy="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2048040" y="5241960"/>
            <a:ext cx="8229600" cy="6588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901800" y="48276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2054160" y="4114800"/>
            <a:ext cx="822960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189080" y="377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116000" y="2365200"/>
            <a:ext cx="8229600" cy="6638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615960" y="2962440"/>
            <a:ext cx="82296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3"/>
          <a:stretch/>
        </p:blipFill>
        <p:spPr>
          <a:xfrm>
            <a:off x="841320" y="2639880"/>
            <a:ext cx="8053560" cy="621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32240"/>
            <a:ext cx="6924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9:03Z</dcterms:created>
  <dc:creator/>
  <dc:description/>
  <dc:language>en-US</dc:language>
  <cp:lastModifiedBy/>
  <dcterms:modified xsi:type="dcterms:W3CDTF">2011-12-08T11:39:09Z</dcterms:modified>
  <cp:revision>1</cp:revision>
  <dc:subject/>
  <dc:title/>
</cp:coreProperties>
</file>